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B1DF-647B-44BD-ABE1-A0CA61A1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6A2-341B-4B13-8907-6BD2A64D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678-2E01-4D98-BFA0-E97F15A3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2C38-9259-457A-91C2-826195C3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A5E-BFA6-45AF-98D1-B5E39BCE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721-4742-47BF-B6D6-DF078B73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6814-8D34-4C1E-BD3D-4067606C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5E3-6848-4560-B0C9-6DE6ECAE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AC8-534E-4168-B0D8-E0DF63A2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352-F0ED-40BB-9285-189813DA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82AE-A4EB-423D-B7F4-BF581BB4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9429-03AE-4D97-A635-4F023FD9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FD5-DCFC-408A-85BB-E5E8940A9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6C2-729E-40DA-A0B0-80755C63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B08-DF8A-4996-8E1B-113177C5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AC55-2EFF-48B6-AC62-13B8815E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4CD-76AC-4A02-A6CF-38E8472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7F4-9758-4CCC-83F2-D5F8095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A3F-0AE6-4195-9D78-EA3CE84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F1B-F4CB-416B-9C90-9389B934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E63-338F-457E-BE66-58BA5869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5BC-0EB2-4E7B-83CB-52E3B15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9B5-CE90-49C1-9455-52398F6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3F0-3474-47A9-B0A4-3362F7F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F9B-1806-45DB-9E56-1DFC4A2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053-1631-40A5-AA0F-AD8B8A2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F17-A025-44AF-B9EC-C2C1A20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DDA-057E-41F5-BA5D-9FFD44A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2AD7-3FAE-4E38-83D7-7507AA39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0"/>
            <a:ext cx="8839080" cy="77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not politically 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 Does not reveal how 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lif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at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holding up human vices and follies to ridicule or s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Social history of a select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otleggers, stock market embezz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d crime, people in the fast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64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52280" y="228600"/>
            <a:ext cx="883944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CHAN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LACK INNER RESOURCES TO ENJOY WHAT THEIR WEALTH CAN G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M BUCH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BRUTALIZED BY SELFISHNESS AND ARROG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TH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R AND REPRESENTATIVE OF THE MORAL WASTELAND WHICH HAS REPLACED AMERICAN ID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OF ACTION BASED ON SELF-PRESERVATION RATHER THAN ANY IDE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SY: Typical Fitzgera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parasi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ly frigid despite of their sentimen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zgera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ttitude toward women was always one of distrust because of his experience with Ze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4920" y="142920"/>
            <a:ext cx="883908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ISY BUCH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TOO MUCH OF A CHILD TO CONTROL HER DELIGHT IN ANY NEW PLAYTHING (GATSBY, TOM, PAM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FUL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EY TO ALL MAGIC OF DA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I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T OF WEALTH AND OFFERS CONTINUAL PROMISE (VOICE). HOWEVER IT IS A FALSE PROMISE SINCE AT HEART SHE IS AS SELF-CENTERD AS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SB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DREAM, AND CAUSE OF WASTED ID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9840" y="351000"/>
            <a:ext cx="883908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ORDAN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PORTUNIST – SEES NICK AS A PERSON SHE CAN RELY ON IF ANYTHING GOE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** NOT LOVE BUT TAKING ADVA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ORGE 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ED BY THE FACT THAT HE HOLDS IDEALS OF HONOR (HE ACTUALLY LOVES HIS W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ORAL WASTELAND PEOPLE WHO TRULY LOVE ARE VULNERABLE (NICK,GATSBY,MR. WIL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98440" y="141120"/>
            <a:ext cx="8839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. T. J. ECKLEBURG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OF THE CHIEF CHARACTERS’ BLINDNESS  (GLASSES ARE YELLOW, PURE SIGHT IS DISTORTED BY MAT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SBY DOES NOT SEE DAIS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ICIOUS 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SY THINKS SHE CAN SEE HER WAY AND DUMP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52280" y="235080"/>
            <a:ext cx="86868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 IS BLIND TO HYPOCRISY (HE CAN CHEAT BUT HIS WIFE CAN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TLE MISTAKES TOM FOR SALVATION FROM THE WAST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ILSON SEES GATSBY AS WIF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URD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WHOLE NOVEL ONLY NICK SEES. HIS VISION COMES SLOWLY AND FINALLY DECIDES THAT GATSBY IS THE BEST OF THE WHOLE CROWD. HE SEES GATSBY AS JUST A DREAMER/ROMA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3320" y="76320"/>
            <a:ext cx="883908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disillusionment and hedonism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zz 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ws immorality and the corrup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erica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cence murdered for wealth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wasting away of self as one grows into the world of sex and money. A wasting away of American people as we grow from wilderness to civ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 Happiness =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0"/>
            <a:ext cx="914400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tle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akes Gatsby “great” is the commitment to his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jective “Great” also indicates the tawdry and  exaggerated aspects of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told by Nick Carroway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erson trustworthy reporter and reluctantly ju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0"/>
            <a:ext cx="914400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RRUPTION OF THE AMERICAN D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apturing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tability (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EST AND EAST EGG, NEW YORK 1922 (see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WO OR MORE OPPOSED FORCES IN A WORK OF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LICT IN GATSB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les are fighting over one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ER REMAINS PURE—REALITY BECOMES STARK CORRUPTION AND PREDATORY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30492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Y GATS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AMES GAT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ZATION OF THE FALSE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 IS ITSELF AN IDEAL IN ORDER TO WIN DAI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COMPLETELY WITHOUT A STANDARD OF EITHER MORAL CODE OR SOCIAL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REALIZATION IS MATERIAL ACQUISITION AT ANY COST, IT IS AN IDENTITY FOUNDED ON FAÇADE AND 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DEPENDS FOR ITS VERY EXISTANCE UPON ILLUSION. THE END RESULT MUST BE 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57200" y="355680"/>
            <a:ext cx="8839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EVIL BUT WASTED GOODNESS, WASTED AMBITION- HE WANTED TO WIN HER BY MATERIA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PIRITUAL VALUES REDUCED TO VULGARITY AND 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MISPLACED FAITH IN 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28600" y="30492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TSBY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DECAY OF THE AMERICAN DREAM (SUCCESS) THROUGH SELF IMPROVEMENT AND HARD WORK COMPARED TO GATSB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CTIONS AND VALUES AS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TS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CORRUPTED AMERICAN DREAM,INNOCENCE, AND DRE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1400" y="0"/>
            <a:ext cx="92962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ck Carro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aditional moral codes which has made America great before 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for moral and spiritual growth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haracter that has not been corrupted by seeking or spending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ed by beauty but recognizes the emptiness and gaudy display of nothingness that represents the wast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56:05Z</dcterms:created>
  <dc:creator>staff</dc:creator>
  <dc:description/>
  <dc:language>en-US</dc:language>
  <cp:lastModifiedBy>test</cp:lastModifiedBy>
  <dcterms:modified xsi:type="dcterms:W3CDTF">2014-11-10T20:26:10Z</dcterms:modified>
  <cp:revision>31</cp:revision>
  <dc:subject/>
  <dc:title>Slide 1</dc:title>
</cp:coreProperties>
</file>